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94920" y="68544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A6D54-6B2F-47A8-B0C5-3DBB291BF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3829E-E457-4C01-A8EF-A31009E19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website and email for any necessary followup or inform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64143-0F71-443A-B380-5BF097904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9EBD1-3BD4-4C67-9756-C77017C8F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F1F18-1378-4268-82D1-B18096CBE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people to qiat.org. as the websi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peo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57132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dress at the left bottom of the slide is the address of the QIAT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57132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dress at the right is the QIAT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5D179-BD16-4BB4-AFCE-A9030DCBE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elf with perspe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all, feel free to add content, supports to make this engaging and intera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talk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1C818-DBA0-4B2C-881E-D8F2CF232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44F9E-7237-48DC-A1E8-747EA3075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7849F-EC9A-4B08-AABA-1FB522BD7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0A768-D630-477B-9D94-31575A6D41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323F5-3DCD-40B7-995E-231E0DD70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B057D-361A-4497-A2AB-4855A1413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05172-B213-4527-92CB-6F4730D27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8035A-43C6-4582-9A69-017916753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56E01-F2DE-4264-BE03-61320DEA4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2EB94-0DC5-4281-BAA9-7D59D089E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FDD81-336F-4CF2-89E1-7308AECF3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C760A-123E-4134-B455-0875FA6922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E10D4-9094-4E04-9541-0666ADCB6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elf with perspe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all, feel free to add content, supports to make this engaging and intera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talk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E10C6-F12C-4F9F-B03C-932D5C631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50A65-56FC-4B33-AE28-33F35D878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8C5A0-8D59-4D33-89B3-ED52F4E9E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self with perspe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all, feel free to add content, supports to make this engaging and intera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talk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2955A-D642-4BF1-A7F2-B5A2CC466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1F997-C497-446D-ABBB-674564F8B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5D856-9D08-4E54-B81D-EE68C099D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A2E22-2812-4AEB-9F88-F8150AC0C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952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58D3F-6369-4855-90FA-DBBE98C9D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97080" y="68724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OTE-TAKING GUIDE:  SETTing the Stage for Success with 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Joy Smiley Zabala (2005).  For permission to use contact by email joy@joyzabala.com.  For further information, visit http://www.joyzabala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8F9CC-444F-4D8D-84DC-9FAC72B66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1569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5472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672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028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672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028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438280" y="685800"/>
            <a:ext cx="60199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472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1569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72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8672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40280" y="228600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8672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40280" y="4156920"/>
            <a:ext cx="2526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685800"/>
            <a:ext cx="60199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54720" y="415692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4720" y="2286000"/>
            <a:ext cx="38296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156920"/>
            <a:ext cx="7848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2"/>
          <p:cNvSpPr/>
          <p:nvPr/>
        </p:nvSpPr>
        <p:spPr>
          <a:xfrm>
            <a:off x="6095880" y="6095880"/>
            <a:ext cx="2667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http://www.qiat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4"/>
          <p:cNvSpPr/>
          <p:nvPr/>
        </p:nvSpPr>
        <p:spPr>
          <a:xfrm>
            <a:off x="533520" y="6095880"/>
            <a:ext cx="3124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QIATleadership@gmai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" name="Object 35"/>
          <p:cNvGraphicFramePr/>
          <p:nvPr/>
        </p:nvGraphicFramePr>
        <p:xfrm>
          <a:off x="762120" y="762120"/>
          <a:ext cx="1295280" cy="106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129528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41"/>
          <p:cNvSpPr/>
          <p:nvPr/>
        </p:nvSpPr>
        <p:spPr>
          <a:xfrm>
            <a:off x="380880" y="38088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095880" y="6095880"/>
            <a:ext cx="2667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http://www.qiat.o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533520" y="6095880"/>
            <a:ext cx="3124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QIATleadership@gmail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80880" y="380880"/>
            <a:ext cx="838224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10"/>
          <p:cNvGraphicFramePr/>
          <p:nvPr/>
        </p:nvGraphicFramePr>
        <p:xfrm>
          <a:off x="3200400" y="838080"/>
          <a:ext cx="2666880" cy="219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838080"/>
                    <a:ext cx="266688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QIATleadership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  <a:ea typeface="ＭＳ Ｐゴシック"/>
              </a:rPr>
              <a:t>QIAT Conversations 2014:</a:t>
            </a:r>
            <a:br>
              <a:rPr sz="3200"/>
            </a:br>
            <a:r>
              <a:rPr b="1" lang="en-US" sz="3200" spc="-1" strike="noStrike">
                <a:solidFill>
                  <a:srgbClr val="3259e5"/>
                </a:solidFill>
                <a:latin typeface="Arial"/>
                <a:ea typeface="ＭＳ Ｐゴシック"/>
              </a:rPr>
              <a:t> Using QIAT Tools to Support and Improve Your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1960" y="6858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Contents of Each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90920" y="32763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057400" y="2438280"/>
            <a:ext cx="548640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Title  (Area 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h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2560">
              <a:lnSpc>
                <a:spcPct val="120000"/>
              </a:lnSpc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Assumptions for ALL Ar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on-going collaborative wor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ethical practi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legally correct and aligned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pplicable regardless of the model of service delivery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pplicable to other service plans and program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QIAT On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44956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ＭＳ Ｐゴシック"/>
              </a:rPr>
              <a:t>QIAT Lis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gial conversation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information and updat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 perspectiv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n to al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9" name="Picture 5" descr="MP900401814[1]"/>
          <p:cNvPicPr/>
          <p:nvPr/>
        </p:nvPicPr>
        <p:blipFill>
          <a:blip r:embed="rId1"/>
          <a:stretch/>
        </p:blipFill>
        <p:spPr>
          <a:xfrm>
            <a:off x="5410080" y="2971800"/>
            <a:ext cx="2637000" cy="17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762120" y="3429000"/>
            <a:ext cx="761976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9e5"/>
                </a:solidFill>
                <a:latin typeface="Arial"/>
              </a:rPr>
              <a:t>Tools and Documents for Continuous Impr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Documents an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251460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333720" indent="-33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AT Indicators and Common Erro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AT Matri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ing Docum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AT in Action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3720" indent="-333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iled List of Resour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9140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QIAT Indicators and </a:t>
            </a:r>
            <a:br>
              <a:rPr sz="3200"/>
            </a:b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Common Err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2666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7 Indicators in each are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t statements for each indicato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rrors in each are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9e5"/>
                </a:solidFill>
                <a:latin typeface="Arial"/>
              </a:rPr>
              <a:t>Consideration Example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Indicator #4 with Intent Stateme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Common Error #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9807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Indicator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ecisions regarding the need for assistive technology devices and service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sed on the student’s IEP goals and objectives, access to curricular and extracurricular activities, and progress in the general education curriculum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nt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IEP team determines the tasks the student needs to complete and develops the goals and objectives, the team considers whether assistive technology is required to accomplish those tasks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Error #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eam members fail to consider access to the curriculum and IEP goals in determining if AT is required in order for the student to receive FAP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QIAT Matr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rubric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range of practice from unacceptable to promisin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as self-evaluation and improvement planning tool that can be used by states, districts, teams, individua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837720"/>
            <a:ext cx="6019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handout…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x Example for Consideration Quality Indicator #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MatrixConsiderationQI4.tiff"/>
          <p:cNvPicPr/>
          <p:nvPr/>
        </p:nvPicPr>
        <p:blipFill>
          <a:blip r:embed="rId1"/>
          <a:stretch/>
        </p:blipFill>
        <p:spPr>
          <a:xfrm>
            <a:off x="685800" y="2666880"/>
            <a:ext cx="7699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Guiding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upon the Quality Indicators providing additional dept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ication paragraph for each Indicato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ve Scenario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  <a:ea typeface="ＭＳ Ｐゴシック"/>
              </a:rPr>
              <a:t>Framing the S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22860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a brief overview QIAT Indicator areas and supporting documen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tools and documents that support continuous improvement of AT services within the context of AT Consider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stories about how QIAT supports your consideration proces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6019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9e5"/>
                </a:solidFill>
                <a:latin typeface="Arial"/>
              </a:rPr>
              <a:t>In your handout…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ing Document for Consideration 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GuideingDoc.QIATConsideration4.tiff"/>
          <p:cNvPicPr/>
          <p:nvPr/>
        </p:nvPicPr>
        <p:blipFill>
          <a:blip r:embed="rId1"/>
          <a:stretch/>
        </p:blipFill>
        <p:spPr>
          <a:xfrm>
            <a:off x="2647800" y="1676520"/>
            <a:ext cx="43624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QIAT in 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forms and brief supplementary documents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practitioners at QIAT Summit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d at regional and national conferen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tted by QIAT Leadership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019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9e5"/>
                </a:solidFill>
                <a:latin typeface="Arial"/>
              </a:rPr>
              <a:t>In your handout…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ation Gu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QIATConsiderationGuide.tiff"/>
          <p:cNvPicPr/>
          <p:nvPr/>
        </p:nvPicPr>
        <p:blipFill>
          <a:blip r:embed="rId1"/>
          <a:stretch/>
        </p:blipFill>
        <p:spPr>
          <a:xfrm>
            <a:off x="2614680" y="1828800"/>
            <a:ext cx="5234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QIAT Resource Li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for learning more arranged by are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79760" indent="-41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79760" indent="-41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items from websit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79760" indent="-41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list of commercially available materia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QIAT Resource Ba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ace on the website where individuals within the QIAT Community can post material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 are freely shared by developer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97440" indent="-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sion of materials in the Resource Bank does not indicate endorsement by QIAT Leadership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97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914400" y="3511440"/>
            <a:ext cx="762012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59e5"/>
                </a:solidFill>
                <a:latin typeface="Arial"/>
              </a:rPr>
              <a:t>Share your Stories on How QIAT Supports Consideration in your S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Sharing Your S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 3 or 4 folks close to yo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how you are using QIAT Consideration resour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prepared to share one 2-minute success story from your group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59e5"/>
                </a:solidFill>
                <a:latin typeface="Arial"/>
              </a:rPr>
              <a:t>Putting QIAT to Work for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02120" indent="-40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the documents and resources on the QIAT web sit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with others on the QIAT Lis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you need help or have a concern, contact the Leadership Team at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QIATleadership@gmail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o individual email address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838080" y="3738600"/>
            <a:ext cx="762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A Brief Overview of QI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8380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Mission Stat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2743200"/>
            <a:ext cx="6877080" cy="124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ssion of QIAT is to guide the provision of quality AT services to improve educational achievement of students with disabilities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Purpose of QI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7391160" cy="32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uide improvement of  AT services in order to improve the educational participation and results of students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 quality of servi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 consistency of servi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ort implementation IDEA and other legal mandat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Beneficiaries of QIAT</a:t>
            </a:r>
            <a:r>
              <a:rPr b="1" lang="en-US" sz="3600" spc="-1" strike="noStrike">
                <a:solidFill>
                  <a:srgbClr val="104dd8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istrict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3259e5"/>
                </a:solidFill>
                <a:latin typeface="Arial"/>
              </a:rPr>
              <a:t>quality AT servi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provider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3259e5"/>
                </a:solidFill>
                <a:latin typeface="Arial"/>
              </a:rPr>
              <a:t>continuous improvement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and famili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259e5"/>
                </a:solidFill>
                <a:latin typeface="Arial"/>
              </a:rPr>
              <a:t>integrated AT servi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259e5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259e5"/>
                </a:solidFill>
                <a:latin typeface="Arial"/>
              </a:rPr>
              <a:t>competent service provide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-maker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259e5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259e5"/>
                </a:solidFill>
                <a:latin typeface="Arial"/>
              </a:rPr>
              <a:t>judicious polic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908840" y="487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3259e5"/>
                </a:solidFill>
                <a:latin typeface="Arial"/>
              </a:rPr>
              <a:t>QIAT Developments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8 to Pres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Primary QIAT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2285640"/>
            <a:ext cx="6095880" cy="19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lvl="2" marL="808920" indent="-269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tors in 8 areas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808920" indent="-269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ed in 2004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808920" indent="-269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rix for each are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808920" indent="-269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808920" indent="-269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AT Web sit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8089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59e5"/>
                </a:solidFill>
                <a:latin typeface="Arial"/>
              </a:rPr>
              <a:t>8 QIAT Are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329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 in the IEP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57600" y="2362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Effectivenes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Support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19:34:56Z</dcterms:created>
  <dc:creator>Jim Moore</dc:creator>
  <dc:description/>
  <dc:language>en-US</dc:language>
  <cp:lastModifiedBy>Scott Marfilius</cp:lastModifiedBy>
  <cp:lastPrinted>2002-11-20T13:46:00Z</cp:lastPrinted>
  <dcterms:modified xsi:type="dcterms:W3CDTF">2014-03-18T12:41:40Z</dcterms:modified>
  <cp:revision>740</cp:revision>
  <dc:subject/>
  <dc:title>Design Process</dc:title>
</cp:coreProperties>
</file>